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8A7F-44D4-4CE5-90D2-E9AEB252F7ED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82E8-EDE8-4A04-979E-F78376DA3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C9D-ADFA-452E-80AB-07B06C25D2B3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08B-6BB1-44E9-8043-A7806BB7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6E5-EB47-4449-B1A2-CA6AC08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25D-0A49-4EA3-8BCA-B6A5AC63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1A7-32F6-4699-BFAB-80AE8D2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870-22F6-4BA1-8CB7-00EE9A6B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4368-ED1E-4A97-B1C3-873DD60E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8964-1B8C-4BDA-AE14-46E181D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2D9-36A7-4BDA-B240-0179C847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A382-E94A-4D90-9A76-38FD931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642-672B-481E-9A10-CA46226B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8EF3-2248-4666-BF38-B22C63F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9E3-00E4-49AD-ACAC-60C5061E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01E-9A08-4FE0-A1E4-1B5BFEA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1DA-7AEC-48B5-A234-3837C94F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FC5B-DE73-4530-BF66-EA253F13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E6BE-1F5A-4D7C-99B5-77755DCC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C542-6C55-4F26-8FD8-E6168EDB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DDE-4A30-4CB6-ACBA-B24EF60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37A-01AC-4673-973E-8D9D045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B84-A58C-4022-9D9B-72B949A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D41-3240-4266-82C1-5F31D94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A0A-0131-4F10-859C-0BF31BC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632-5D90-4368-B61D-61094EC2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D9F-C89F-43C2-A2CC-7ACF5D0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360" cy="1524240"/>
          </a:xfrm>
          <a:custGeom>
            <a:avLst/>
            <a:gdLst/>
            <a:ahLst/>
            <a:rect l="l" t="t" r="r" b="b"/>
            <a:pathLst>
              <a:path w="0" h="1524003">
                <a:moveTo>
                  <a:pt x="0" y="0"/>
                </a:moveTo>
                <a:lnTo>
                  <a:pt x="1" y="15240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572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1D7-4E75-459D-BE60-9D06485CB5BC}" type="slidenum"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360" cy="1295640"/>
            <a:chOff x="8153280" y="152280"/>
            <a:chExt cx="792360" cy="129564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8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8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360" cy="4496040"/>
          </a:xfrm>
          <a:custGeom>
            <a:avLst/>
            <a:gdLst/>
            <a:ahLst/>
            <a:rect l="l" t="t" r="r" b="b"/>
            <a:pathLst>
              <a:path w="0" h="4495803">
                <a:moveTo>
                  <a:pt x="0" y="0"/>
                </a:moveTo>
                <a:lnTo>
                  <a:pt x="1" y="44958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360"/>
          </a:xfrm>
          <a:custGeom>
            <a:avLst/>
            <a:gdLst/>
            <a:ahLst/>
            <a:rect l="l" t="t" r="r" b="b"/>
            <a:pathLst>
              <a:path w="8229600" h="0">
                <a:moveTo>
                  <a:pt x="0" y="0"/>
                </a:moveTo>
                <a:lnTo>
                  <a:pt x="8229600" y="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572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C88F-8D5E-4544-AE6A-83996078DE61}" type="slidenum"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0066"/>
                </a:solidFill>
                <a:latin typeface="Arial"/>
              </a:rPr>
              <a:t>TEMA 1: EL SER HUMANO COMO ANIMAL PLURICELULAR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organismo está formado por cél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orgánulos de una célula hu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úcleo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mbrana y los intercambios con el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 funcionamiento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 metabolism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Células especializadas. Los 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ipos de tejidos: epitelial y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ejidos conectivos y mu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Órganos y sistemas de órg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9. LOS TEJIDOS CONECTIVOS Y EL TEJIDO MUS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19360"/>
            <a:ext cx="40384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3.TEJIDO CONECTIV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unció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ón y so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abundante sustancia intercelular y fi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Conjuntivo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(relleno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cupa el espacio entre órganos. (tejido adipo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Cartilagino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nción de sostén. Esqueleto de embriones, articulaciones, orejas, nari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Óse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onente de las huesos. Muy duro, sustancia intercelular miner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719360"/>
            <a:ext cx="40384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4.TEJIDO MUSCULAR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sponsable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v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diferentes partes del organismo. Células= fibras mu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ay tres tip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estriado esquelét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úsculos que se unen a huesos. Movimiento volu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estriado cardíaco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edes del corazón. Movimiento involu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li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paredes de estómago, vasos… contracción involun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0. ÓRGANOS Y SISTEMAS DE ÓRGAN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692316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tejidos se agrupan para formar estructuras llamada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ÓRGANOS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Un órganos está formado por dos o más tejidos diferentes que se agrupan para realizar una nueva fun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conjunto de órganos con actividades muy relacionadas y que desarrollan una función compleja forman u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PARATO o SITEMA DE ÓRGANO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(Sistema circulatorio, digestivo nervioso, respirato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61400" y="5877000"/>
            <a:ext cx="7966800" cy="6426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ORGANISMO ESTÁ FORMADO POR ÓRGANOS 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STEMAS DE ÓRGANOS QUE FUNCIONAN DE MANERA COORDI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j0235241"/>
          <p:cNvPicPr/>
          <p:nvPr/>
        </p:nvPicPr>
        <p:blipFill>
          <a:blip r:embed="rId1"/>
          <a:stretch/>
        </p:blipFill>
        <p:spPr>
          <a:xfrm>
            <a:off x="6877080" y="3860640"/>
            <a:ext cx="19591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1. TRASPLAN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71280" y="1719360"/>
            <a:ext cx="59151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RASPL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sustituir un tejido, células u órganos enfermo y que pone en peligro la vida de una persona, llamada receptora, por otro que funcione adecua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 ser don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onas en situación  de muerte 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ona viva tras la do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donante y receptor deben ser lo más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compatib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sibles (sino rechaz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ipos de transpl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transplante (mismo individ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sotransplante (geme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otransplante (misma espe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enostransplante (distinta espe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j0240719"/>
          <p:cNvPicPr/>
          <p:nvPr/>
        </p:nvPicPr>
        <p:blipFill>
          <a:blip r:embed="rId1"/>
          <a:stretch/>
        </p:blipFill>
        <p:spPr>
          <a:xfrm>
            <a:off x="755640" y="2565360"/>
            <a:ext cx="168768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4" descr="mapa_serunipluricel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5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. Nuestro organismo está formado por célul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1665) Observó las células por primera v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chleiden y Schwan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stablecen la </a:t>
            </a:r>
            <a:r>
              <a:rPr b="0" i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Teoría Celular</a:t>
            </a:r>
            <a:r>
              <a:rPr b="0" i="1" lang="es-E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Todos los seres vivos están formados por célu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s células son la unidad estructural y funcional de los S.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Toda célula procede por división de otra célula anter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ÉLULA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unidad estructural y funcional más pequeña de los S.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Organism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icelula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ados por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una sola célu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realiza todas las funciones (ameba, param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luricelula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uch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funciones específicas (animales y pla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odas las células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ienen en comú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mbrana celular o plasm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ina capa que envuelv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toplas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solución rica en agua que contiene los orgán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úcleo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ructura que contiene el material ge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eucariotica"/>
          <p:cNvPicPr/>
          <p:nvPr/>
        </p:nvPicPr>
        <p:blipFill>
          <a:blip r:embed="rId1"/>
          <a:stretch/>
        </p:blipFill>
        <p:spPr>
          <a:xfrm>
            <a:off x="7667640" y="1700280"/>
            <a:ext cx="1297080" cy="126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2. Los orgánulos de una célula human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MITOCONDRI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ovaladas y con doble membrana. Dan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a la célu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VACUOL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vesículas membranosas.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Almacena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roductos de desecho o reser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ISOSOM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vesículas membranosas.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 Transforma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ustancias complejas en otras más sencil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ITOESQUELE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red de filamentos. Forman el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esquele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célu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ENTRIOLO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cilindros huecos. Dirigen el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movimien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l citoesquele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pilas de sacos membranosos aplanados y rodeados de vesículas. Su función es l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secreció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sde el retículo al exter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RIBOSOM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artículas libres o adosadas a la membrana del retículo endoplasmático que se encargan de fabricar proteí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RETÍCULO ENDOPLASMÁTIC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acos, canales membranosos comunic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que fabrican proteínas o lípidos. Puede se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Lis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in ribosomas ados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Rugoso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n ribos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elula-humana"/>
          <p:cNvPicPr/>
          <p:nvPr/>
        </p:nvPicPr>
        <p:blipFill>
          <a:blip r:embed="rId1"/>
          <a:stretch/>
        </p:blipFill>
        <p:spPr>
          <a:xfrm>
            <a:off x="5183280" y="4316400"/>
            <a:ext cx="396072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3. El núcleo de la célul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759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Célul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cariot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élulas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sin membr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uclear, material genético disperso por el citoplasma (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ucariot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élulas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n el núcleo separado del citoplas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una membrana (animales y vege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Estructura del núcle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6"/>
          <p:cNvGrpSpPr/>
          <p:nvPr/>
        </p:nvGrpSpPr>
        <p:grpSpPr>
          <a:xfrm>
            <a:off x="2556000" y="3462480"/>
            <a:ext cx="5765760" cy="2717640"/>
            <a:chOff x="2556000" y="3462480"/>
            <a:chExt cx="5765760" cy="2717640"/>
          </a:xfrm>
        </p:grpSpPr>
        <p:cxnSp>
          <p:nvCxnSpPr>
            <p:cNvPr id="167" name="_s1028"/>
            <p:cNvCxnSpPr>
              <a:stCxn id="168" idx="4"/>
              <a:endCxn id="169" idx="4"/>
            </p:cNvCxnSpPr>
            <p:nvPr/>
          </p:nvCxnSpPr>
          <p:spPr>
            <a:xfrm flipV="1" rot="16200000">
              <a:off x="6554160" y="4568400"/>
              <a:ext cx="229320" cy="119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029"/>
            <p:cNvCxnSpPr>
              <a:stCxn id="171" idx="4"/>
              <a:endCxn id="169" idx="5"/>
            </p:cNvCxnSpPr>
            <p:nvPr/>
          </p:nvCxnSpPr>
          <p:spPr>
            <a:xfrm flipH="1" flipV="1" rot="5400000">
              <a:off x="5363640" y="4568760"/>
              <a:ext cx="229320" cy="1190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0"/>
            <p:cNvCxnSpPr>
              <a:stCxn id="169" idx="6"/>
              <a:endCxn id="173" idx="4"/>
            </p:cNvCxnSpPr>
            <p:nvPr/>
          </p:nvCxnSpPr>
          <p:spPr>
            <a:xfrm flipV="1" rot="16200000">
              <a:off x="5641560" y="3715560"/>
              <a:ext cx="229320" cy="635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1"/>
            <p:cNvCxnSpPr>
              <a:stCxn id="175" idx="4"/>
              <a:endCxn id="173" idx="5"/>
            </p:cNvCxnSpPr>
            <p:nvPr/>
          </p:nvCxnSpPr>
          <p:spPr>
            <a:xfrm flipH="1" flipV="1" rot="5400000">
              <a:off x="4425120" y="3134160"/>
              <a:ext cx="229320" cy="1799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032"/>
            <p:cNvSpPr/>
            <p:nvPr/>
          </p:nvSpPr>
          <p:spPr>
            <a:xfrm>
              <a:off x="4640400" y="3462480"/>
              <a:ext cx="1596960" cy="457200"/>
            </a:xfrm>
            <a:prstGeom prst="pi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ÚCLE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2556000" y="4148280"/>
              <a:ext cx="2168640" cy="901440"/>
            </a:xfrm>
            <a:prstGeom prst="pi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VOLTU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ble membran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 poro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4989600" y="4148280"/>
              <a:ext cx="2168640" cy="9014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PLASM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ido del núcle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3827520" y="5278680"/>
              <a:ext cx="2112840" cy="9014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OMATIN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amentos de AD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cromosom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6207120" y="5278680"/>
              <a:ext cx="2114640" cy="9014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L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feras que fabric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4. EL FUNCIONAMIENTO DE LA CÉLU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7" name="Diagram 5"/>
          <p:cNvGrpSpPr/>
          <p:nvPr/>
        </p:nvGrpSpPr>
        <p:grpSpPr>
          <a:xfrm>
            <a:off x="1135440" y="353160"/>
            <a:ext cx="7053840" cy="7054560"/>
            <a:chOff x="1135440" y="353160"/>
            <a:chExt cx="7053840" cy="7054560"/>
          </a:xfrm>
        </p:grpSpPr>
        <p:sp>
          <p:nvSpPr>
            <p:cNvPr id="178" name="_s2052"/>
            <p:cNvSpPr/>
            <p:nvPr/>
          </p:nvSpPr>
          <p:spPr>
            <a:xfrm>
              <a:off x="2081160" y="1298520"/>
              <a:ext cx="5162760" cy="5164200"/>
            </a:xfrm>
            <a:custGeom>
              <a:avLst/>
              <a:gdLst>
                <a:gd name="textAreaLeft" fmla="*/ 0 w 5162760"/>
                <a:gd name="textAreaRight" fmla="*/ 5163120 w 5162760"/>
                <a:gd name="textAreaTop" fmla="*/ 0 h 5164200"/>
                <a:gd name="textAreaBottom" fmla="*/ 2844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053"/>
            <p:cNvSpPr/>
            <p:nvPr/>
          </p:nvSpPr>
          <p:spPr>
            <a:xfrm rot="3600000">
              <a:off x="2079720" y="129924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_s2054"/>
            <p:cNvSpPr/>
            <p:nvPr/>
          </p:nvSpPr>
          <p:spPr>
            <a:xfrm rot="7200000">
              <a:off x="207972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_s2055"/>
            <p:cNvSpPr/>
            <p:nvPr/>
          </p:nvSpPr>
          <p:spPr>
            <a:xfrm rot="10799400">
              <a:off x="2080440" y="1298160"/>
              <a:ext cx="5162760" cy="5164200"/>
            </a:xfrm>
            <a:custGeom>
              <a:avLst/>
              <a:gdLst>
                <a:gd name="textAreaLeft" fmla="*/ 0 w 5162760"/>
                <a:gd name="textAreaRight" fmla="*/ 5163120 w 5162760"/>
                <a:gd name="textAreaTop" fmla="*/ 0 h 5164200"/>
                <a:gd name="textAreaBottom" fmla="*/ 2844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_s2056"/>
            <p:cNvSpPr/>
            <p:nvPr/>
          </p:nvSpPr>
          <p:spPr>
            <a:xfrm rot="14399400">
              <a:off x="208008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 rot="18000000">
              <a:off x="208044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_s2058"/>
            <p:cNvSpPr/>
            <p:nvPr/>
          </p:nvSpPr>
          <p:spPr>
            <a:xfrm>
              <a:off x="5346720" y="133020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 energía par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bricar la proteín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_s2059"/>
            <p:cNvSpPr/>
            <p:nvPr/>
          </p:nvSpPr>
          <p:spPr>
            <a:xfrm>
              <a:off x="2979720" y="132840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SALIDA 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_s2060"/>
            <p:cNvSpPr/>
            <p:nvPr/>
          </p:nvSpPr>
          <p:spPr>
            <a:xfrm>
              <a:off x="6531120" y="3379680"/>
              <a:ext cx="1000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OBTENCIÓN DE UN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A DEL AD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del núcleo 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 ribosom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_s2061"/>
            <p:cNvSpPr/>
            <p:nvPr/>
          </p:nvSpPr>
          <p:spPr>
            <a:xfrm>
              <a:off x="5346720" y="542952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brican la proteín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_s2062"/>
            <p:cNvSpPr/>
            <p:nvPr/>
          </p:nvSpPr>
          <p:spPr>
            <a:xfrm>
              <a:off x="2979720" y="542952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a l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ínas 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. endoplasmát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_s2063"/>
            <p:cNvSpPr/>
            <p:nvPr/>
          </p:nvSpPr>
          <p:spPr>
            <a:xfrm>
              <a:off x="1797120" y="3379680"/>
              <a:ext cx="1000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. GOLG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aqueta e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sículas l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écul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1" descr="celula_vegetal"/>
            <p:cNvPicPr/>
            <p:nvPr/>
          </p:nvPicPr>
          <p:blipFill>
            <a:blip r:embed="rId1"/>
            <a:stretch/>
          </p:blipFill>
          <p:spPr>
            <a:xfrm>
              <a:off x="3851280" y="3068640"/>
              <a:ext cx="1574640" cy="1191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5. La membrana y los intercambios con el medio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85264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IFUS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transporte pasivo de pequeñas moléculas (CO2, O2) que atraviesan la membrana: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→ 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2920" y="2852640"/>
            <a:ext cx="40388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TRANSPORTE ACTIV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upone un gasto de energía para transportar sustancias des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→ 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8360" y="220500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USIÓN Y TRANSPORTE AC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léculas pequeñ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ueden atravesar la membrana p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DOCITOSIS Y EXOCITOSI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partícula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ran tamañ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no atraviesan la membrana. En estos cas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docit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 membrana engloba a la partíc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ocit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s vesículas vierten su contenido al ex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092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membrana plasmática tiene permeabilidad selectiva, deja pasar algunas sustancias e impide el paso de ot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6. EL METABOLISMO CELULA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6121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El conjunto de reacciones químicas que suceden en el interior de la célula constituyen el metabol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Tipos de metabolism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t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acciones qu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gradan </a:t>
            </a:r>
            <a:r>
              <a:rPr b="0" lang="es-ES" sz="2000" spc="-1" strike="noStrike">
                <a:solidFill>
                  <a:srgbClr val="330066"/>
                </a:solidFill>
                <a:latin typeface="Arial"/>
              </a:rPr>
              <a:t>moléculas complej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otras más sencillas liberando energía.                                                               Ej: respiración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úcidos →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+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ruyen moléculas complej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partir de otras </a:t>
            </a:r>
            <a:r>
              <a:rPr b="0" lang="es-ES" sz="2000" spc="-1" strike="noStrike">
                <a:solidFill>
                  <a:srgbClr val="330066"/>
                </a:solidFill>
                <a:latin typeface="Arial"/>
              </a:rPr>
              <a:t>más senc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necesita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: fabricación de 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1403280" y="6165720"/>
            <a:ext cx="585468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léculas complejas →← Moléculas sencillas+ Energ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3" descr="image45"/>
          <p:cNvPicPr/>
          <p:nvPr/>
        </p:nvPicPr>
        <p:blipFill>
          <a:blip r:embed="rId1"/>
          <a:stretch/>
        </p:blipFill>
        <p:spPr>
          <a:xfrm>
            <a:off x="6276960" y="1700280"/>
            <a:ext cx="286704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7. CÉLULAS ESPECIALIZADAS. LOS TEJI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smos pluricelulares aumentan sus células por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ivisión celu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célula mantiene la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capacidad de divis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otra célula se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especializa y pierd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la capacidad de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divis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upo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Hacer un trabajo determin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arrollar una forma característica y cambia su citoplasma adecuándose a la función que desempeñ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tej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on un agregado de célula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neralmente del mismo tipo, organ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realizar una función común. Entre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élulas hay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sustancia intercelu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tejido4"/>
          <p:cNvPicPr/>
          <p:nvPr/>
        </p:nvPicPr>
        <p:blipFill>
          <a:blip r:embed="rId1"/>
          <a:stretch/>
        </p:blipFill>
        <p:spPr>
          <a:xfrm>
            <a:off x="6588000" y="4508640"/>
            <a:ext cx="1868760" cy="17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8. TIPOS DE TEJIDOS. EL TEJIDO EPITELIAL Y EL NERVIOS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628640"/>
            <a:ext cx="42480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1.TEJIDO EPITELIAL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Recubre la superficie externa e interna del cuerpo y órganos sin apenas sustancia intercel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Epitelio de revesti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función protec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Epitelio glandula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roduce y segrega sustancias. Glándul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64000" y="1844640"/>
            <a:ext cx="3610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2.TEJIDO NERVIOSO: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(Encéfalo, médula espinal y nervios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oge la información del exterior e interior del cuerpo y la transmite a los lugares donde se elaboran respuestas adecu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Células nervios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Células Gliales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porte, defensa y nutrición de neur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183-630"/>
          <p:cNvPicPr/>
          <p:nvPr/>
        </p:nvPicPr>
        <p:blipFill>
          <a:blip r:embed="rId1"/>
          <a:stretch/>
        </p:blipFill>
        <p:spPr>
          <a:xfrm>
            <a:off x="1908000" y="4124160"/>
            <a:ext cx="381960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21:53Z</dcterms:created>
  <dc:creator>Meri</dc:creator>
  <dc:description/>
  <dc:language>en-US</dc:language>
  <cp:lastModifiedBy>Centor</cp:lastModifiedBy>
  <dcterms:modified xsi:type="dcterms:W3CDTF">2015-09-27T22:41:38Z</dcterms:modified>
  <cp:revision>70</cp:revision>
  <dc:subject/>
  <dc:title>TEMA 1: EL SER HUMANO COMO ANIMAL PLURICELULAR</dc:title>
</cp:coreProperties>
</file>